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CD89-4190-494A-86FD-3C0EF970CB1E}"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0EB6-6E06-47E0-8AC3-B46324C67BA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4CCF-47F8-4338-842D-A414CCA04B7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293040" y="299880"/>
            <a:ext cx="711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Elements of a data management plan</a:t>
            </a:r>
            <a:r>
              <a:rPr b="0" lang="en-US" sz="1200" spc="-1" strike="noStrike">
                <a:solidFill>
                  <a:srgbClr val="000000"/>
                </a:solidFill>
                <a:latin typeface="Helvetica Neue Light"/>
              </a:rPr>
              <a:t>: Roles and responsibilitie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dataconservancy.org/sites/default/files/Questionnaire_V.1.pdf" TargetMode="External"/><Relationship Id="rId2" Type="http://schemas.openxmlformats.org/officeDocument/2006/relationships/hyperlink" Target="https://dmp.cdlib.org/" TargetMode="External"/><Relationship Id="rId3" Type="http://schemas.openxmlformats.org/officeDocument/2006/relationships/hyperlink" Target="http://www.nsf.gov/bfa/dias/policy/dmp.jsp" TargetMode="External"/><Relationship Id="rId4" Type="http://schemas.openxmlformats.org/officeDocument/2006/relationships/hyperlink" Target="http://science1.nasa.gov/earth-science/earth-science-data/data-information-policy/"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Elements of a Data Management Plan: </a:t>
            </a:r>
            <a:br>
              <a:rPr sz="4800"/>
            </a:br>
            <a:r>
              <a:rPr b="0" lang="en-US" sz="4800" spc="-1" strike="noStrike">
                <a:solidFill>
                  <a:srgbClr val="000000"/>
                </a:solidFill>
                <a:latin typeface="Helvetica Neue Light"/>
              </a:rPr>
              <a:t>Roles and Responsibilitie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a high level overview of the content of a Data Management Plan see Data Management: Elements of a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details of other sections of a Data Management Plan se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dentify materials to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Organization an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escribing and documenting your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access, sharing and re-use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Backups, archives, and preservation strategy</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oles that need filling</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le manager is responsible for your data files, their formats, contents, and names; as well as how they are organized (e.g., spreadsheets, relational database, etc.)</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 &amp; documentation manager is responsible for creating metadata and documentation about the data created so that you and any other users can understand the data not just now but also in the futur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up &amp; storage manager is responsible for ensuring that data is securely stored, has not been corrupted and that multiple, distributed copies exis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558720" y="5790960"/>
            <a:ext cx="11862000" cy="2019240"/>
          </a:xfrm>
          <a:prstGeom prst="rect">
            <a:avLst/>
          </a:prstGeom>
          <a:noFill/>
          <a:ln w="0">
            <a:noFill/>
          </a:ln>
        </p:spPr>
        <p:txBody>
          <a:bodyPr lIns="50760" rIns="50760" tIns="50760" bIns="50760" anchor="t">
            <a:normAutofit fontScale="93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Who is going to fill these rolls (i.e., do data management) during your research project?</a:t>
            </a:r>
            <a:endParaRPr b="0" lang="en-US" sz="4800" spc="-1" strike="noStrike">
              <a:solidFill>
                <a:srgbClr val="606060"/>
              </a:solidFill>
              <a:latin typeface="Helvetica Neue"/>
            </a:endParaRPr>
          </a:p>
        </p:txBody>
      </p:sp>
      <p:sp>
        <p:nvSpPr>
          <p:cNvPr id="747"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48" name="Picture 6" descr="5471047557_4dc13f5376.jpg"/>
          <p:cNvPicPr/>
          <p:nvPr/>
        </p:nvPicPr>
        <p:blipFill>
          <a:blip r:embed="rId1"/>
          <a:stretch/>
        </p:blipFill>
        <p:spPr>
          <a:xfrm>
            <a:off x="4368960" y="1219320"/>
            <a:ext cx="4394160" cy="439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58720" y="5790960"/>
            <a:ext cx="11862000" cy="335268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You?</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on a small project that might be quite reasonable</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0"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51" name="Picture 1" descr="5471047557_4dc13f5376.jpg"/>
          <p:cNvPicPr/>
          <p:nvPr/>
        </p:nvPicPr>
        <p:blipFill>
          <a:blip r:embed="rId1"/>
          <a:stretch/>
        </p:blipFill>
        <p:spPr>
          <a:xfrm>
            <a:off x="4368960" y="1219320"/>
            <a:ext cx="4394160" cy="439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58720" y="5790960"/>
            <a:ext cx="11862000" cy="3352680"/>
          </a:xfrm>
          <a:prstGeom prst="rect">
            <a:avLst/>
          </a:prstGeom>
          <a:noFill/>
          <a:ln w="0">
            <a:noFill/>
          </a:ln>
        </p:spPr>
        <p:txBody>
          <a:bodyPr lIns="50760" rIns="50760" tIns="50760" bIns="50760" anchor="t">
            <a:normAutofit fontScale="8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Your graduate student?</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Do really want them spending time doing data management and not learning how to do science?</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3"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54" name="Picture 2" descr="gus2CU.jpg"/>
          <p:cNvPicPr/>
          <p:nvPr/>
        </p:nvPicPr>
        <p:blipFill>
          <a:blip r:embed="rId1"/>
          <a:stretch/>
        </p:blipFill>
        <p:spPr>
          <a:xfrm>
            <a:off x="3454560" y="1295280"/>
            <a:ext cx="5943600" cy="4457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254160" y="5790960"/>
            <a:ext cx="12344400" cy="335268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A staff person?</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Do they have any training or experience in this?</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6"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57" name="Picture 2" descr="gus2CU.jpg"/>
          <p:cNvPicPr/>
          <p:nvPr/>
        </p:nvPicPr>
        <p:blipFill>
          <a:blip r:embed="rId1"/>
          <a:stretch/>
        </p:blipFill>
        <p:spPr>
          <a:xfrm>
            <a:off x="3454560" y="1295280"/>
            <a:ext cx="5943600" cy="4457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558720" y="5790960"/>
            <a:ext cx="11862000" cy="3352680"/>
          </a:xfrm>
          <a:prstGeom prst="rect">
            <a:avLst/>
          </a:prstGeom>
          <a:noFill/>
          <a:ln w="0">
            <a:noFill/>
          </a:ln>
        </p:spPr>
        <p:txBody>
          <a:bodyPr lIns="50760" rIns="50760" tIns="50760" bIns="50760" anchor="t">
            <a:normAutofit fontScale="8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A data scientist, data manager, or data wrangler?</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Does your organization have any of these?  Your library or archive probably will</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9"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60" name="Picture 2" descr="gus2CU.jpg"/>
          <p:cNvPicPr/>
          <p:nvPr/>
        </p:nvPicPr>
        <p:blipFill>
          <a:blip r:embed="rId1"/>
          <a:stretch/>
        </p:blipFill>
        <p:spPr>
          <a:xfrm>
            <a:off x="3454560" y="1295280"/>
            <a:ext cx="5943600" cy="4457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558720" y="6781320"/>
            <a:ext cx="11862000" cy="251460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Will multiple people be involved?</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What role will each play?</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62"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63" name="Picture 1" descr="group.jpg"/>
          <p:cNvPicPr/>
          <p:nvPr/>
        </p:nvPicPr>
        <p:blipFill>
          <a:blip r:embed="rId1"/>
          <a:stretch/>
        </p:blipFill>
        <p:spPr>
          <a:xfrm>
            <a:off x="2463840" y="1523880"/>
            <a:ext cx="7643880" cy="529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ailed questionnaire put together by the Data Conservancy about everything that might be important for your data management plan, </a:t>
            </a:r>
            <a:r>
              <a:rPr b="0" lang="en-US" sz="3400" spc="-1" strike="noStrike" u="sng">
                <a:solidFill>
                  <a:srgbClr val="009999"/>
                </a:solidFill>
                <a:uFillTx/>
                <a:latin typeface="Helvetica Neue"/>
                <a:hlinkClick r:id="rId1"/>
              </a:rPr>
              <a:t>http://dataconservancy.org/sites/default/files/Questionnaire_V.1.p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alifornia Digital Library’s on-line DMPTool, </a:t>
            </a:r>
            <a:r>
              <a:rPr b="0" lang="en-US" sz="3400" spc="-1" strike="noStrike" u="sng">
                <a:solidFill>
                  <a:srgbClr val="009999"/>
                </a:solidFill>
                <a:uFillTx/>
                <a:latin typeface="Helvetica Neue"/>
                <a:hlinkClick r:id="rId2"/>
              </a:rPr>
              <a:t>https://dmp.cdlib.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s data management plan requirements are available at </a:t>
            </a:r>
            <a:r>
              <a:rPr b="0" lang="en-US" sz="3400" spc="-1" strike="noStrike" u="sng">
                <a:solidFill>
                  <a:srgbClr val="009999"/>
                </a:solidFill>
                <a:uFillTx/>
                <a:latin typeface="Helvetica Neue"/>
                <a:hlinkClick r:id="rId3"/>
              </a:rPr>
              <a:t>http://www.nsf.gov/bfa/dias/policy/dmp.jsp</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ASA Data Policy </a:t>
            </a:r>
            <a:r>
              <a:rPr b="0" lang="en-US" sz="3400" spc="-1" strike="noStrike" u="sng">
                <a:solidFill>
                  <a:srgbClr val="009999"/>
                </a:solidFill>
                <a:uFillTx/>
                <a:latin typeface="Helvetica Neue"/>
                <a:hlinkClick r:id="rId4"/>
              </a:rPr>
              <a:t>http://science1.nasa.gov/earth-science/earth-science-data/data-information-polic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06T20:16:04Z</dcterms:modified>
  <cp:revision>42</cp:revision>
  <dc:subject/>
  <dc:title>ESIP Federation 101</dc:title>
</cp:coreProperties>
</file>